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396FB-51BB-437D-9649-50E1E19D4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48B37-6ED4-4A12-BD54-9A1D52CFF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DE3C7-AEE8-464B-BE0E-E7E2055A1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9ED85-5741-449B-87CC-E08E5AB8A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E5B37-9E39-4796-9058-57E6EA81C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56495-35F8-4DF7-A2E3-D45BED301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2889B-7D17-4B3B-9427-FD3F4BF7E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B1EEB-0903-4514-8333-464D05EFC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EF2-B6CA-4088-AA51-A309AEBA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CF4-E7B2-4E34-AF73-23F359A2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C41-20CD-455A-B0C5-6C83F57E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805-D94B-4557-8D38-BD6DA770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C16-2637-4C1E-9C27-FD4B9932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B06-2561-46E8-9B49-1F7780E7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B9C-80BF-4C4D-988C-2AF0163A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5BA-3907-48F1-B9E6-B7F7FB5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645-96FE-49AD-962D-A15D9F25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C52-344D-47E4-B4A0-A40CEAEB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DB9-DEA3-45C9-9426-744A0C61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455-82F1-4874-A792-D74976A8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3BA60-EE5E-4A11-8EA1-F24B79D01B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1268280"/>
            <a:ext cx="9144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2349360"/>
            <a:ext cx="9144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Защита персональных данных детей в информационно-телекоммуникационной сети «Интерн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170028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правлен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Роскомнадз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Республике Башкорто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314172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39640" y="33336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Verdana"/>
              </a:rPr>
              <a:t>Требов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. 7 Федерального зак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52-ФЗ «О персональных данн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ы и иные лица, получившие доступ к персональным данным, обязаны не раскрывать третьим лицам и не распространять персональные данные без согласия субъекта персональных данных, если иное не предусмотрено федеральным зако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324000" y="404640"/>
            <a:ext cx="84960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ctr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ми действующего законодательства Российской Федерации не предусмотрено размещение персональных данных образовательными учреждениями персональных данных учащихся в информационно-телекоммуникационной сети «Интерн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755640" y="404640"/>
            <a:ext cx="794232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требованиям ч. 4 ст. 9 Федерального закона № 152-ФЗ «О персональных данных», согласие на обработку персональных данных должно включать в себя, в частности, цель обработки персональных данных и перечень действий с персональными данными, на совершение которых дается согласие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755640" y="404640"/>
            <a:ext cx="794232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требованиями      ч. 2 ст. 5 Федерального закона №152-ФЗ «О персональных данных», обработка персональных данных должна ограничиваться достижением конкретных, заранее определенных и законных ц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684360" y="83664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учреждения не имеют законных целей, предусмотренных требованиями действующего законодательства Российской Федерации для размещения персональных данных несовершеннолетних учащихся в информационно-телекоммуникационной сети «Интерн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263700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347) 279-11-05, 279-11-2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279-11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  <Company>3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1:56:23Z</dcterms:created>
  <dc:creator>new</dc:creator>
  <dc:description/>
  <dc:language>en-US</dc:language>
  <cp:lastModifiedBy>Личко В.В.</cp:lastModifiedBy>
  <dcterms:modified xsi:type="dcterms:W3CDTF">2017-05-31T09:55:33Z</dcterms:modified>
  <cp:revision>1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5</vt:r8>
  </property>
</Properties>
</file>