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776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E7791B-D3FB-47FA-97D6-37F269C86A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9BF825-164B-4E70-BAA7-CA9176B877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111BD0-9111-4C06-9E5A-0BBE566211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F8543E-C8C9-40E2-9535-1210EEAF2C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B8EB93-117D-4DAF-8FA9-92E76208F2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CC040B-6039-4B02-9DD4-8A43E7A1AF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B0640E-DF07-4BA3-B54B-11D985C65F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856FF6-3031-4B97-8014-2BC6C4313E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3737-92FA-45D6-9009-3A78C5205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89E4-F4F1-4090-AFFC-F936D2F16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3F80-97BC-49B0-8B13-FE918E5E2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A400-7C87-485D-9D22-53C16B89E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39C5-955A-475C-8BA9-BC8ABE706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8675-3C32-4F7B-A000-EC9E0E6BD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0D3F-0453-4050-A3BD-D7D044625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EE33-47C6-4429-AC22-FD790CE71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6708-24BA-4868-9A25-CBC2AD4F5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F751-A524-46F2-BD00-AE2D6C0E9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EB1B-2BE0-45DD-9B00-1045FFD57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4E4C-32EC-426D-8CA2-45D104C5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698773-DA9E-4EDD-8E07-8E324BBF17D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0" y="1268280"/>
            <a:ext cx="914400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0" y="2349360"/>
            <a:ext cx="914400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Защита персональных данных детей в информационно-телекоммуникационной сети «Интерне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0" y="1700280"/>
            <a:ext cx="9144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343080" indent="-3416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430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430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правлен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Роскомнадзо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430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 Республике Башкортост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430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430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430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430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0" y="314172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858960" cy="981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2"/>
          <a:stretch/>
        </p:blipFill>
        <p:spPr>
          <a:xfrm>
            <a:off x="8172360" y="0"/>
            <a:ext cx="971640" cy="9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"/>
          <p:cNvSpPr/>
          <p:nvPr/>
        </p:nvSpPr>
        <p:spPr>
          <a:xfrm>
            <a:off x="539640" y="333360"/>
            <a:ext cx="822960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8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094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2f2f2"/>
                </a:solidFill>
                <a:latin typeface="Verdana"/>
              </a:rPr>
              <a:t>Требование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 algn="ctr">
              <a:tabLst>
                <a:tab algn="l" pos="0"/>
                <a:tab algn="l" pos="6094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т. 7 Федерального зако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 algn="ctr">
              <a:tabLst>
                <a:tab algn="l" pos="0"/>
                <a:tab algn="l" pos="6094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52-ФЗ «О персональных данных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 algn="ctr">
              <a:tabLst>
                <a:tab algn="l" pos="0"/>
                <a:tab algn="l" pos="6094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 algn="just">
              <a:tabLst>
                <a:tab algn="l" pos="0"/>
                <a:tab algn="l" pos="6094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ператоры и иные лица, получившие доступ к персональным данным, обязаны не раскрывать третьим лицам и не распространять персональные данные без согласия субъекта персональных данных, если иное не предусмотрено федеральным закон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 algn="ctr">
              <a:spcBef>
                <a:spcPts val="601"/>
              </a:spcBef>
              <a:tabLst>
                <a:tab algn="l" pos="0"/>
                <a:tab algn="l" pos="6094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094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094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58960" cy="981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8172360" y="0"/>
            <a:ext cx="971640" cy="9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324000" y="404640"/>
            <a:ext cx="849600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8040" algn="ctr">
              <a:spcBef>
                <a:spcPts val="601"/>
              </a:spcBef>
              <a:tabLst>
                <a:tab algn="l" pos="0"/>
                <a:tab algn="l" pos="6094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 algn="just">
              <a:spcBef>
                <a:spcPts val="601"/>
              </a:spcBef>
              <a:tabLst>
                <a:tab algn="l" pos="0"/>
                <a:tab algn="l" pos="6094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Требованиями действующего законодательства Российской Федерации не предусмотрено размещение персональных данных образовательными учреждениями персональных данных учащихся в информационно-телекоммуникационной сети «Интернет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 algn="just">
              <a:spcBef>
                <a:spcPts val="601"/>
              </a:spcBef>
              <a:tabLst>
                <a:tab algn="l" pos="0"/>
                <a:tab algn="l" pos="6094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58960" cy="981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2"/>
          <a:stretch/>
        </p:blipFill>
        <p:spPr>
          <a:xfrm>
            <a:off x="8172360" y="0"/>
            <a:ext cx="971640" cy="9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1"/>
          <p:cNvSpPr/>
          <p:nvPr/>
        </p:nvSpPr>
        <p:spPr>
          <a:xfrm>
            <a:off x="755640" y="404640"/>
            <a:ext cx="7942320" cy="56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8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094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 algn="just">
              <a:spcBef>
                <a:spcPts val="601"/>
              </a:spcBef>
              <a:tabLst>
                <a:tab algn="l" pos="0"/>
                <a:tab algn="l" pos="6094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Arial"/>
              </a:rPr>
              <a:t>     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огласно требованиям ч. 4 ст. 9 Федерального закона № 152-ФЗ «О персональных данных», согласие на обработку персональных данных должно включать в себя, в частности, цель обработки персональных данных и перечень действий с персональными данными, на совершение которых дается согласие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 algn="just">
              <a:spcBef>
                <a:spcPts val="649"/>
              </a:spcBef>
              <a:tabLst>
                <a:tab algn="l" pos="0"/>
                <a:tab algn="l" pos="6094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58960" cy="981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8172360" y="0"/>
            <a:ext cx="971640" cy="9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1"/>
          <p:cNvSpPr/>
          <p:nvPr/>
        </p:nvSpPr>
        <p:spPr>
          <a:xfrm>
            <a:off x="755640" y="404640"/>
            <a:ext cx="7942320" cy="56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8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094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 algn="just">
              <a:spcBef>
                <a:spcPts val="601"/>
              </a:spcBef>
              <a:tabLst>
                <a:tab algn="l" pos="0"/>
                <a:tab algn="l" pos="6094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 соответствии с требованиями      ч. 2 ст. 5 Федерального закона №152-ФЗ «О персональных данных», обработка персональных данных должна ограничиваться достижением конкретных, заранее определенных и законных це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 algn="ctr">
              <a:spcBef>
                <a:spcPts val="649"/>
              </a:spcBef>
              <a:tabLst>
                <a:tab algn="l" pos="0"/>
                <a:tab algn="l" pos="6094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58960" cy="981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2"/>
          <a:stretch/>
        </p:blipFill>
        <p:spPr>
          <a:xfrm>
            <a:off x="8172360" y="0"/>
            <a:ext cx="971640" cy="9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1"/>
          <p:cNvSpPr/>
          <p:nvPr/>
        </p:nvSpPr>
        <p:spPr>
          <a:xfrm>
            <a:off x="684360" y="83664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80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6094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бразовательные учреждения не имеют законных целей, предусмотренных требованиями действующего законодательства Российской Федерации для размещения персональных данных несовершеннолетних учащихся в информационно-телекоммуникационной сети «Интернет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58960" cy="981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8172360" y="0"/>
            <a:ext cx="971640" cy="9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"/>
          <p:cNvSpPr/>
          <p:nvPr/>
        </p:nvSpPr>
        <p:spPr>
          <a:xfrm>
            <a:off x="0" y="2637000"/>
            <a:ext cx="9144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ПАСИБО ЗА ВНИМАНИ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347) 279-11-05, 279-11-21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, 279-11-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58960" cy="981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8172360" y="0"/>
            <a:ext cx="971640" cy="971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1</TotalTime>
  <Application>LibreOffice/7.4.7.2$Linux_X86_64 LibreOffice_project/40$Build-2</Application>
  <AppVersion>15.0000</AppVersion>
  <Company>3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01:56:23Z</dcterms:created>
  <dc:creator>new</dc:creator>
  <dc:description/>
  <dc:language>en-US</dc:language>
  <cp:lastModifiedBy>Личко В.В.</cp:lastModifiedBy>
  <dcterms:modified xsi:type="dcterms:W3CDTF">2017-05-31T09:55:33Z</dcterms:modified>
  <cp:revision>17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0</vt:r8>
  </property>
  <property fmtid="{D5CDD505-2E9C-101B-9397-08002B2CF9AE}" pid="3" name="HyperlinksChanged">
    <vt:bool>0</vt:bool>
  </property>
  <property fmtid="{D5CDD505-2E9C-101B-9397-08002B2CF9AE}" pid="4" name="LinksUpToDate">
    <vt:bool>0</vt:bool>
  </property>
  <property fmtid="{D5CDD505-2E9C-101B-9397-08002B2CF9AE}" pid="5" name="MMClips">
    <vt:r8>0</vt:r8>
  </property>
  <property fmtid="{D5CDD505-2E9C-101B-9397-08002B2CF9AE}" pid="6" name="Notes">
    <vt:r8>0</vt:r8>
  </property>
  <property fmtid="{D5CDD505-2E9C-101B-9397-08002B2CF9AE}" pid="7" name="PresentationFormat">
    <vt:lpwstr>Экран (4:3)</vt:lpwstr>
  </property>
  <property fmtid="{D5CDD505-2E9C-101B-9397-08002B2CF9AE}" pid="8" name="ScaleCrop">
    <vt:bool>0</vt:bool>
  </property>
  <property fmtid="{D5CDD505-2E9C-101B-9397-08002B2CF9AE}" pid="9" name="ShareDoc">
    <vt:bool>0</vt:bool>
  </property>
  <property fmtid="{D5CDD505-2E9C-101B-9397-08002B2CF9AE}" pid="10" name="Slides">
    <vt:r8>15</vt:r8>
  </property>
</Properties>
</file>