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6BEDB-F1C1-4494-A446-3F2846BF2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0E849-3298-4A38-A36F-D2275AC28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51C10-2F60-4C27-824B-7FECACF00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69199-9B2B-4B13-8019-64E391EB8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DD85B-E6F2-481D-A37D-B5F55F9A0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A9870-BF6E-4E72-B50F-5E51951E8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3FC50-FB67-482C-B908-943923E1C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5D7D3-5715-433B-9FBF-CBF9E26DE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3AA19-638D-45B2-B692-2DD20E282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45090-D356-4905-8B1E-523B2AC1E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4C685-99DC-4A86-9814-90338E943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4BEE2-A1A9-4801-AE7E-81210C1CE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222C5-F5EF-476B-974C-49196F4D5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CBE55-F845-4A54-9E33-C928053DD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DB5BD-B48D-402F-A6DB-67828E5BA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D9390-8A35-4423-9A23-30B3BF026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9A1DD-D211-488C-86C3-5F79F5313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9BA2F-604D-4454-B488-1C4404CD9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F038A-CC21-49AA-9F2E-474A476F3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C46F-3546-4BF8-95DB-5C985DE83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F276-FC96-4ABE-AD7F-688E2FFD8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A592-9A8C-4B5E-8C77-CDB71552C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4573-903A-40A1-9B7F-2A872DE09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A968-B68F-4CA3-BDF4-E7C2CE389A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036D-497B-4E3E-A3FD-419567A604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7049-011F-4CDC-B88C-EDBE2E0A8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B083-BC3F-4742-99ED-995C810E1C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26BA-C508-4823-B3C6-1B9880CF79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ECC0-4CC6-4ACC-A46B-BB69AA8F73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9C01-16E1-480A-9FC3-B3D9E762A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7915-56B1-4B2C-B4D6-37C592B6E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8CFD-49D1-4732-A4ED-A0B3349384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499C-4B74-4B64-8564-C157BA658D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C6C9-9E49-4009-9DF5-14B779F08A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7EFB-2C07-4DCB-850A-C5D50FAA0F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EE00-6ACC-4C5D-8A8A-DFB8245CC1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1AD1-73DB-410E-AD48-3F77FFC80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5663-EA31-4D30-B414-237D54FD5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BBF6-297E-445A-AB95-8EA41D28B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B730-4B14-4A7C-85A0-D39BCC5BA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6412-5EC7-460C-A801-EB7AA683A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E2D0-1FF3-4033-B8BD-CC6EF1F55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C76D-2953-46FF-9E2D-C66DFD805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AutoShape 2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8" h="952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7305840" y="6372360"/>
              <a:ext cx="17280" cy="2700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7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7296120" y="6343560"/>
              <a:ext cx="7920" cy="27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" h="17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8223120" y="5678640"/>
              <a:ext cx="481320" cy="1174680"/>
            </a:xfrm>
            <a:custGeom>
              <a:avLst/>
              <a:gdLst>
                <a:gd name="textAreaLeft" fmla="*/ 0 w 481320"/>
                <a:gd name="textAreaRight" fmla="*/ 481680 w 4813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3" h="740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7807320" y="5640480"/>
              <a:ext cx="496800" cy="12160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3" h="766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7461360" y="5869080"/>
              <a:ext cx="434880" cy="9874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987480"/>
                <a:gd name="textAreaBottom" fmla="*/ 987840 h 987480"/>
              </a:gdLst>
              <a:ahLst/>
              <a:rect l="textAreaLeft" t="textAreaTop" r="textAreaRight" b="textAreaBottom"/>
              <a:pathLst>
                <a:path w="274" h="622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7178760" y="5888160"/>
              <a:ext cx="336600" cy="968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212" h="610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6813720" y="6248520"/>
              <a:ext cx="263520" cy="608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166" h="383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6508800" y="6381720"/>
              <a:ext cx="261720" cy="4748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165" h="299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6207120" y="6410160"/>
              <a:ext cx="374760" cy="4464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236" h="281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5832360" y="6486480"/>
              <a:ext cx="309600" cy="3700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95" h="233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5518080" y="6458040"/>
              <a:ext cx="300240" cy="39852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89" h="251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5032440" y="6648480"/>
              <a:ext cx="363600" cy="20808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29" h="131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4832280" y="6696000"/>
              <a:ext cx="139680" cy="160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88" h="101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702640" y="5345280"/>
              <a:ext cx="439920" cy="151128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7" h="952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51960" indent="-221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995480" indent="-221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1995480" indent="-221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1995480" indent="-221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Text Box 19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eaeaea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D0C6E-26FD-4880-9EB1-73030E302C63}" type="slidenum">
              <a:rPr b="0" lang="en-US" sz="1200" spc="-1" strike="noStrike">
                <a:solidFill>
                  <a:srgbClr val="eaeaea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58" name="AutoShape 2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8" h="952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3"/>
            <p:cNvSpPr/>
            <p:nvPr/>
          </p:nvSpPr>
          <p:spPr>
            <a:xfrm>
              <a:off x="7305840" y="6372360"/>
              <a:ext cx="17280" cy="2700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7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4"/>
            <p:cNvSpPr/>
            <p:nvPr/>
          </p:nvSpPr>
          <p:spPr>
            <a:xfrm>
              <a:off x="7296120" y="6343560"/>
              <a:ext cx="7920" cy="27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" h="17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"/>
            <p:cNvSpPr/>
            <p:nvPr/>
          </p:nvSpPr>
          <p:spPr>
            <a:xfrm>
              <a:off x="8223120" y="5678640"/>
              <a:ext cx="481320" cy="1174680"/>
            </a:xfrm>
            <a:custGeom>
              <a:avLst/>
              <a:gdLst>
                <a:gd name="textAreaLeft" fmla="*/ 0 w 481320"/>
                <a:gd name="textAreaRight" fmla="*/ 481680 w 4813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3" h="740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>
              <a:off x="7807320" y="5640480"/>
              <a:ext cx="496800" cy="12160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3" h="766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7"/>
            <p:cNvSpPr/>
            <p:nvPr/>
          </p:nvSpPr>
          <p:spPr>
            <a:xfrm>
              <a:off x="7461360" y="5869080"/>
              <a:ext cx="434880" cy="9874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987480"/>
                <a:gd name="textAreaBottom" fmla="*/ 987840 h 987480"/>
              </a:gdLst>
              <a:ahLst/>
              <a:rect l="textAreaLeft" t="textAreaTop" r="textAreaRight" b="textAreaBottom"/>
              <a:pathLst>
                <a:path w="274" h="622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8"/>
            <p:cNvSpPr/>
            <p:nvPr/>
          </p:nvSpPr>
          <p:spPr>
            <a:xfrm>
              <a:off x="7178760" y="5888160"/>
              <a:ext cx="336600" cy="968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212" h="610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9"/>
            <p:cNvSpPr/>
            <p:nvPr/>
          </p:nvSpPr>
          <p:spPr>
            <a:xfrm>
              <a:off x="6813720" y="6248520"/>
              <a:ext cx="263520" cy="608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166" h="383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0"/>
            <p:cNvSpPr/>
            <p:nvPr/>
          </p:nvSpPr>
          <p:spPr>
            <a:xfrm>
              <a:off x="6508800" y="6381720"/>
              <a:ext cx="261720" cy="4748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165" h="299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1"/>
            <p:cNvSpPr/>
            <p:nvPr/>
          </p:nvSpPr>
          <p:spPr>
            <a:xfrm>
              <a:off x="6207120" y="6410160"/>
              <a:ext cx="374760" cy="4464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236" h="281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2"/>
            <p:cNvSpPr/>
            <p:nvPr/>
          </p:nvSpPr>
          <p:spPr>
            <a:xfrm>
              <a:off x="5832360" y="6486480"/>
              <a:ext cx="309600" cy="3700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95" h="233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3"/>
            <p:cNvSpPr/>
            <p:nvPr/>
          </p:nvSpPr>
          <p:spPr>
            <a:xfrm>
              <a:off x="5518080" y="6458040"/>
              <a:ext cx="300240" cy="39852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89" h="251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4"/>
            <p:cNvSpPr/>
            <p:nvPr/>
          </p:nvSpPr>
          <p:spPr>
            <a:xfrm>
              <a:off x="5032440" y="6648480"/>
              <a:ext cx="363600" cy="20808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29" h="131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5"/>
            <p:cNvSpPr/>
            <p:nvPr/>
          </p:nvSpPr>
          <p:spPr>
            <a:xfrm>
              <a:off x="4832280" y="6696000"/>
              <a:ext cx="139680" cy="160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88" h="101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6"/>
            <p:cNvSpPr/>
            <p:nvPr/>
          </p:nvSpPr>
          <p:spPr>
            <a:xfrm>
              <a:off x="8702640" y="5345280"/>
              <a:ext cx="439920" cy="151128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7" h="952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7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eaeaea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46EDA-F2A4-4084-B4BC-68CE5FD7A711}" type="slidenum">
              <a:rPr b="0" lang="en-US" sz="1200" spc="-1" strike="noStrike">
                <a:solidFill>
                  <a:srgbClr val="eaeaea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02.rkn.gov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0" y="1268280"/>
            <a:ext cx="9144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3357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170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Управлени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Роскомнадз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по Республике Башкорто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31417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539640" y="971640"/>
            <a:ext cx="82296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just"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сновные обязанности операторов      при хранении персональных дан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4000"/>
              </a:lnSpc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усмотреть меры безопасности, установ-ленные п. 13, 15 ПП 687, в том чис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4000"/>
              </a:lnSpc>
              <a:buClr>
                <a:srgbClr val="ffffff"/>
              </a:buClr>
              <a:buFont typeface="Arial"/>
              <a:buAutoNum type="arabicParenR"/>
              <a:tabLst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вердить перечень мест хранения материальных нос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4000"/>
              </a:lnSpc>
              <a:buClr>
                <a:srgbClr val="ffffff"/>
              </a:buClr>
              <a:buFont typeface="Arial"/>
              <a:buAutoNum type="arabicParenR"/>
              <a:tabLst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вердить перечень лиц, осуществляющих обработку персональных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4000"/>
              </a:lnSpc>
              <a:buClr>
                <a:srgbClr val="ffffff"/>
              </a:buClr>
              <a:buFont typeface="Arial"/>
              <a:buAutoNum type="arabicParenR"/>
              <a:tabLst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вердить перечень лиц, имеющих доступ к персональным да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539640" y="971640"/>
            <a:ext cx="82296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just"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сновные обязанности операторов      при передаче персональных дан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4000"/>
              </a:lnSpc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4000"/>
              </a:lnSpc>
              <a:buClr>
                <a:srgbClr val="ffffff"/>
              </a:buClr>
              <a:buFont typeface="Arial"/>
              <a:buAutoNum type="arabicParenR"/>
              <a:tabLst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roid Sans Fallback"/>
              </a:rPr>
              <a:t>удостовериться в наличии согласия или иного законного осн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4000"/>
              </a:lnSpc>
              <a:buClr>
                <a:srgbClr val="ffffff"/>
              </a:buClr>
              <a:buFont typeface="Arial"/>
              <a:buAutoNum type="arabicParenR"/>
              <a:tabLst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roid Sans Fallback"/>
              </a:rPr>
              <a:t>предусмотреть меры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4000"/>
              </a:lnSpc>
              <a:buClr>
                <a:srgbClr val="ffffff"/>
              </a:buClr>
              <a:buFont typeface="Arial"/>
              <a:buAutoNum type="arabicParenR"/>
              <a:tabLst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Основные обязанности опера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правление уведомления об обработке персональных данных и информационного письма о внесении изменений в ранее поданное уведом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 основании уведомления сведения об операторе вносятся в Реестр операторов, осуществляющих обработку персональ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целях актуализации сведений операторы направляют информационное письмо о внесении изме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30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нформационное письмо направляется в основном в следующих случа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и изменении сведений о юридическом лице (изменение наименования, адреса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случае внесения изменений в законодатель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сентябре 2015 года в Федеральный закон от 27.07.2006 № 152-ФЗ «О персональных данных» были внесены изменения, связанные с обязанностью хранить базы данных на территории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еобходимо от всех организаций направление информационных писем, включающих сведения о местах нахождения баз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0" y="1285920"/>
            <a:ext cx="91440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14440" indent="-5130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Контроль в сфере защиты персональ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осуществляется пу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ctr">
              <a:lnSpc>
                <a:spcPct val="100000"/>
              </a:lnSpc>
              <a:buClr>
                <a:srgbClr val="ffff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проведением проверо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ctr">
              <a:lnSpc>
                <a:spcPct val="100000"/>
              </a:lnSpc>
              <a:buClr>
                <a:srgbClr val="ffff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мероприятиями при рассмотрении обращений граждан и юридических лиц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 algn="ctr">
              <a:lnSpc>
                <a:spcPct val="100000"/>
              </a:lnSpc>
              <a:buClr>
                <a:srgbClr val="ffff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мероприятиями систематического наблюдения (без взаимодействия с проверяемым лиц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0" y="191772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На официальном са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Управления Роскомнадз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по Республике Башкорто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02.rkn.gov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02.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оскомнадзор.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размещены образцы уведомлений, информационных писем, перечень основных нормативных правовых актов в сфере защиты персональных да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а также сведения о проведенных провер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0" y="26370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(347) 279-11-05, 279-11-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едеральный закон от 27.07.2006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№ 152-ФЗ «О персональных данных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9528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ерсональные данные – любая информация, относящаяся к прямо или косвенно определенному или определяемому физическому лицу (субъекту персональных данны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едеральный закон от 27.07.2006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№ 152-ФЗ «О персональных данных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95280" y="1989000"/>
            <a:ext cx="82296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90000"/>
              </a:lnSpc>
              <a:spcBef>
                <a:spcPts val="56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убъект персональных данных – физическое лицо (гражданин), чьи данные обрабаты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56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ператор – государственный орган, муниципальный орган, юридическое или физическое лицо, самостоятельно или совместно с другими лицами организующее и (или) осуществляющее обработку персональных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снования обработк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ерсональных данны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9528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гласие субъекта персональных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конное основание (требование федерального закона или подзаконного а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39640" y="33336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Verdana"/>
              </a:rPr>
              <a:t>Основные обязан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Verdana"/>
              </a:rPr>
              <a:t>операторов установле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гл. 4 Федерального зако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152-ФЗ «О персональных данных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новлением Правительства РФ от 15.09.08 N 687 «Об утверждении Положения об особенностях обработки персональных данных, осуществляемой без использования средств автоматиз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755640" y="404640"/>
            <a:ext cx="794232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Основные обязанности опера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) назначение ответственного за организацию обработки персональных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) ознакомление работников, осуществляющих обработку персональных данных, с положениями законодательства в области персональных данных и (или) обучение указанных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684360" y="8366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Основные обязанности опера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) издание локальных актов по вопросам обработки персональных данны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4) размещение на официальном сайте документа, определяющего политику оператора в отношении обработки персональных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53964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Основные обязанности опера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5) принятие правовых, организационных и технических мер по обеспечению безопасности персональных данных при обработке в информационных системах, в том числе внедрение  средств защиты информации и контролем за принимаемыми ме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53964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 algn="just"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сновные обязанности операторов      при сборе персональных дан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4000"/>
              </a:lnSpc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использовать типовые формы, соответствующие требованиям п. 7 ПП 6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4000"/>
              </a:lnSpc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олучить согласие субъекта (если требует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4000"/>
              </a:lnSpc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если персональные данные получены не от субъекта, предоставить информацию, предусмотренную ч. 3 ст. 18 ФЗ-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094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8960" cy="981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  <Company>3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1:56:23Z</dcterms:created>
  <dc:creator>new</dc:creator>
  <dc:description/>
  <dc:language>en-US</dc:language>
  <cp:lastModifiedBy>Личко В.В.</cp:lastModifiedBy>
  <dcterms:modified xsi:type="dcterms:W3CDTF">2017-05-31T09:55:59Z</dcterms:modified>
  <cp:revision>1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